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CB15-8C01-4E7E-8FA0-7439959D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AA1B-D73E-4BE7-BF96-859F23AA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047D-CABA-44BF-BD6D-662D82868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FE74-968D-4762-B0B8-F09D7041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24F0-1C5C-4D2A-9DED-9478CEBD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60BB-2D6C-4FD9-85C1-D889B78E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AC47-2E0A-4B02-A0A1-2B881133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BE6A-8396-4792-A661-B23F61DB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0E94-E992-4A51-8F25-D18D5764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A556-62C9-4E8A-ADDE-5A0F9D8A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A2FF-F149-4364-B9E2-091B3A7B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970A-3D39-4717-AF4C-3D9D444D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7E0A-D166-4A38-9737-7E3A95FA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1CA2-3B78-464C-A83E-6DAF1048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A3BD-4E0C-4BC2-BE48-021CA177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8126-A5D7-4760-A06B-58A28EB9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E1FE-7876-4076-A5D0-717E84517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DD84-CBA1-405A-BAB9-19A38E16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4C86-7F49-4A08-AD54-BD3DEE20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65D0-40E7-43FA-AA70-3CC513CF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ED7A-7E37-447E-B470-CCCC01AF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A317-3A45-4A96-BFEE-12AE5C67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2B25-C035-4919-9B81-D9BC1D39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BC78-46A6-461B-AB1E-B823EB81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2CD8-52EE-4D91-BB80-2B5A2A1D873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11DF-DFB7-47D0-81CD-0E4E9B1310D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mmunity/School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artnership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67652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Impact"/>
              </a:rPr>
              <a:t>Drawing upon the resources of the entire community in meeting the academic &amp; youth development needs of our children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4186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W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ASHINGTON </a:t>
            </a: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C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OMMUNITY </a:t>
            </a: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S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CHOOL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Educational support activiti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lternative to Suspension -- Mary Rigg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Tutoring &amp; Homework Assistance -- Lilly, IPL, Mary Rigg, Hawthorne, Christamore House, IUPUI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114800" y="419112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90920" y="76320"/>
            <a:ext cx="4724280" cy="3543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651040" y="468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515600" y="-10598040"/>
            <a:ext cx="4572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3733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110000"/>
              </a:lnSpc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fter-School Program -- Hawthorne Center,  Indy Parks &amp; Recreation, Young Audienc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wimming -- Partnering with Indy Park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Life’s Transitions Inc. -- 21st Century Scholars   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Impact"/>
              </a:rPr>
              <a:t>(91% signed up last year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W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ASHINGTON </a:t>
            </a: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C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OMMUNITY </a:t>
            </a: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S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CHOOL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ore educational support activiti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Computers for Kids -- achievement incentives, after-school activity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Teen Health Clinic -- HealthNet nurse  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actitioners funded by Lilly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eace Initiative -- Mary Rigg/AmeriCorp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West Indy Teens -- Friday night middle school community service-based club at Mary Rigg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Dental Services -- Dr. Jeffrey Jorda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Impact"/>
              </a:rPr>
              <a:t>W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ASHINGT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dditional suppor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ven Start, GED, ESL Class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UPUI College Prep Initiative &amp; America Read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Hispanic Social Service Club for Parent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Midtown Community Mental Health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PS Gang Prevention/Community Policing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Lilly Clothe a Chil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National Starch Westside Science Program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562720" y="22860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029200" y="22860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4114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W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ASHINGTON </a:t>
            </a:r>
            <a:br>
              <a:rPr sz="4000"/>
            </a:b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C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OMMUNITY </a:t>
            </a:r>
            <a:br>
              <a:rPr sz="4000"/>
            </a:b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S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CHOOL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No Excuses Schoo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arent Center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Family Nights </a:t>
            </a:r>
            <a:r>
              <a:rPr b="0" i="1" lang="en-US" sz="2800" spc="-1" strike="noStrike">
                <a:solidFill>
                  <a:srgbClr val="ffffff"/>
                </a:solidFill>
                <a:latin typeface="Impact"/>
              </a:rPr>
              <a:t>(265 show up for Bingo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Community Room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Full-time Community School Coordinator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The model IPS Bridges to Success schoo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W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ASHINGTON </a:t>
            </a: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C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OMMUNITY </a:t>
            </a: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S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CHOOL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Does this really enhance achievement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601"/>
              </a:spcBef>
              <a:buClr>
                <a:srgbClr val="01b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Number of students in 6th grade meeting state standard in language arts increased from 15% to 25%, in math the number rose from 26% to 44%, and the number of students passing both increased from 11% to 21%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601"/>
              </a:spcBef>
              <a:buClr>
                <a:srgbClr val="01b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Number of students in 8th grade meeting state standard in language arts increased from 27% to 33%, in math the number rose from 12% to 42%, and the number of students passing both increased from 9% to 24%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W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ASHINGTON </a:t>
            </a: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C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OMMUNITY </a:t>
            </a: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S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CHOOL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uture family-focused program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16680" indent="-2372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Computer building for famili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16680" indent="-2372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Family computer night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navigating the Interne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basic word processin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16680" indent="-2372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Bicycle repair projec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16680" indent="-2372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Cultural enrichment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16680" indent="-2372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Health/wellness, nutrition educ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16680" indent="-2372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Line dancing, arts &amp; crafts, job skills, etc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943600" y="318132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W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ASHINGTON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</a:t>
            </a: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C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OMMUNITY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</a:t>
            </a: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S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CHOOL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6th through 12th grade growth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maller, personal learning environment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ncrease academic success, more graduat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Deeper H.S. parent/community engage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ear-round/alternative schedule interes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lign with feeder elementary school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cademic &amp; youth development enrichment during breaks </a:t>
            </a:r>
            <a:r>
              <a:rPr b="0" i="1" lang="en-US" sz="2800" spc="-1" strike="noStrike">
                <a:solidFill>
                  <a:srgbClr val="ffffff"/>
                </a:solidFill>
                <a:latin typeface="Impact"/>
              </a:rPr>
              <a:t>(partners already committed 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W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ASHINGTON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</a:t>
            </a: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C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OMMUNITY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</a:t>
            </a: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S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CHOOL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Literacy is critica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Build all programs around literacy effort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Meet state &amp; national standard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upport our children &amp; families, building strong communiti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334120" y="4267080"/>
            <a:ext cx="35049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mmunity/School Partnership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Grassroots “school reform”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chool viewed as focus of the community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ommunity viewed as vital support in the success of student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ollaboration is key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dentify resources in the community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dentify student/family need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Invite Stakeholders to the Tabl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ommunity/school committees or  initially a taskforc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05600" indent="-2714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arents, interested community member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05600" indent="-2714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rvice providers (youth &amp; family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05600" indent="-2714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Government, business, faith-based rep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05600" indent="-2714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tudents, teachers, school staff, alumni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05600" indent="-2714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nyone with an interest in improving education and lives of children and famili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llabora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t aside “turf” issues -- define your mission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This is for the childre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This is about improving academic achieve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This is about positive youth develop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This is about community economic develop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Issu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Don’t be afraid to confront challenges -- that’s the point: reduce barriers to academic achievement &amp; positive youth developmen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dentify challeng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Brainstorm ideas to address them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ogether you can accomplish things you can’t do alon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What Do We Know We Get?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Needed services for children &amp; famili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rograms providing positive youth development opportuniti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ncreased parent, community involvemen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ncreased school attendanc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Decreased suspensions, expulsions, behavior problem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What Else Do We Get?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2044440"/>
            <a:ext cx="777240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eachers feel better supported so that they can teach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arents &amp; community leaders feel good about the school in the neighborhood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udents see that schools really do car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ommunities see education in better light &amp; college becomes part of their vocabulary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unders more positive about suppor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2952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W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ASHINGTON </a:t>
            </a: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C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OMMUNITY </a:t>
            </a: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S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HOO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00200" y="1371600"/>
            <a:ext cx="7086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Impact"/>
              </a:rPr>
              <a:t>Serving students and their families through community partnershi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W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ASHINGTON </a:t>
            </a: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C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OMMUNITY </a:t>
            </a:r>
            <a:r>
              <a:rPr b="0" lang="en-US" sz="5400" spc="-1" strike="noStrike">
                <a:solidFill>
                  <a:srgbClr val="ccffff"/>
                </a:solidFill>
                <a:latin typeface="Impact"/>
              </a:rPr>
              <a:t>S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CHOOL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ommunity school  --  community partner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chool as focus of the neighborhoo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Westside community deeply committed to education &amp; youth develop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Westside Education Task Force, WINC, WESC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Meet monthly  as Community Committe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Washington HS Alumni Associ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UPUI &amp; 3 Community Centers within 1 mil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34 partners provide $4.2 million in servic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1T18:09:21Z</dcterms:created>
  <dc:creator>Indianapolis Public Schools</dc:creator>
  <dc:description/>
  <dc:language>en-US</dc:language>
  <cp:lastModifiedBy>Administrator</cp:lastModifiedBy>
  <cp:lastPrinted>2002-03-22T14:59:09Z</cp:lastPrinted>
  <dcterms:modified xsi:type="dcterms:W3CDTF">2009-10-30T17:35:39Z</dcterms:modified>
  <cp:revision>24</cp:revision>
  <dc:subject/>
  <dc:title>WASHINGTON MIDDLE SCHOOL</dc:title>
</cp:coreProperties>
</file>